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9750-D5BF-43C7-AC8F-3CE5421A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556-7CE3-455A-8D65-6E0D0CC6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C2B1-77C6-4CF7-9E67-374FC466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C02C-B261-45DA-9272-02A7E4C3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87C1-D777-4CFC-BD1E-E59AB45D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D447-C3BA-48A5-865C-B37A0F1E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B53D-26AD-445A-994C-7FD31904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4BFC-45AA-40C0-8778-0837F4CF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D542-6A93-403A-8E34-96CC6038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7BB1-6CD5-45CA-8376-F9311311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09F4-3916-4BBD-A427-48D75AB6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510-F9C5-48C3-95F3-F0E9DEB5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1480-10B7-49A5-8617-D8EDE3EA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2054-1D67-4E83-BC00-C87BB461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A4F5-9080-498B-B0B9-BF20606E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2553-1BF6-4EF5-8511-3B07B6AA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BB8D-1BB1-4629-BAD0-03AA8638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7D8-88C1-4C9D-AB6E-2A898FCA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E67-EFE8-4616-8736-7EBF7452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F2A-20DE-40BB-AFBC-0054DE9E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8C19-D04A-480A-BE74-C255F403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976-9B04-4FB6-A473-0986E7B4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D45-AC60-4730-8BB3-86C947B7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0A48-AC24-4106-A256-B7808316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101D-D5D4-4C9E-A4AE-37F388F56787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5A8C-B65F-4CDE-9497-F10EEC91B42D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5840" y="1066680"/>
            <a:ext cx="4724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固体催化剂的表征方法—</a:t>
            </a:r>
            <a:br>
              <a:rPr sz="4400"/>
            </a:b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/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还原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(TPD/TPR)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00800" y="3801960"/>
            <a:ext cx="22860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***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009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程序升温还原（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TPR)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应用于表征负载型金属或过渡金属氧化物催化剂，对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结果进行分析可以获得金属与载体的相互作用，金属的价态和是否形成合金等方面的信息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徐柏庆，徐奕德等，程序升温原位分析方法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5261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还原原理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当负载的金属的价态，聚集状态，与载体的作用发生改变的时候，其还原温度，还原后的价态将会发生改变，如果能测出程序升温还原过程中氢气的消耗量，还原温度等，就能得到负载金属的一些状态参数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6858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简要操作步骤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水分，杂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程序升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145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.Ni/ZrO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B.Co-Ni/ZrO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C.Co-Ni/ZrO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The increase metal loading reduces the metal-support interaction and the metal oxide reduces with less interference from the suppor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aresh C.Das,Catalysis Letters Vol.98,Nos.2-3,November 2004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4496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167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4267440" cy="4419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4191120" cy="4419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61722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Times New Roman"/>
              </a:rPr>
              <a:t>Gonzalo Aguila,Catalysis Communications 9(2008)2550-2554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谢   谢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代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Ovetanovio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menomiya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成功建立和发展了程序升温技术，在最近的几十年中，不管是理论上还是在实验上都得到了充分的完善，并且有广泛的应用，通过此方法可以得到气体在催化剂上吸附键的强弱等信息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辛勤，催化研究中的原位技术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685440"/>
            <a:ext cx="64069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. 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(TPD)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4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测量某固体酸碱的强度和数量时，固体上的物种活性系数是未知的，因此从热力学上来讲固体的酸度和碱度都是不确定的，如果考虑到上述局限性，又不过分强调数值的精度，其绝对值还是非常重要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用于测定酸强度和酸量的方法有胺滴定法，红外和气体吸附脱附法，后两方法更为普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原理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碱性气体在酸性中心上吸附时，吸附在强酸中心上的比吸附在弱酸中心上的稳定，也更难脱附，提高温度可令其从酸性中心上脱附，而那些在弱酸中心上的将首先脱附，因此测定在不同温度下脱附的吸附碱相对量可测定酸中心强度，而脱附的碱性气体的量也就对应其酸量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常用的碱性气体有氨气，吡啶和正丁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田部浩三，新固体酸和碱及其催化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两种常用的研究酸技术的比较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1523880"/>
          <a:ext cx="6553080" cy="502632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286000"/>
              </a:tblGrid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程序升温脱附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吡啶红外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量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峰面积计算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峰面积计算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强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，温度范围较宽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，只能比较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0℃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以内的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分布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不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类型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不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282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简要操作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：吹扫吸附在催化剂上的水分和杂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吸附气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物理吸附的气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程序升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137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9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Cu-Mn-Si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耦合反应合成环己酮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2-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甲基呋喃的研究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3: Cu:Mn=1:2.3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4: Cu:Mn:Si=1:1.12:2.3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5: Cu:Mn:Si=1:1.12:1.1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6: Cu:Mn:Si=1:1.12:0.67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结论：弱酸对环己醇脱氢没有太大的影响，而中等强度的酸对环己酮的收率影响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ong-Yan Zheng,Yu-Lei Zhu,Catalysis Communications 9(2008)342-348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402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4114800" cy="4343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60958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Komandur V.R.Chary,J.Phys.Chem.B,2007,111(3),543-550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33320" y="1371600"/>
            <a:ext cx="3337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TPD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的几种延伸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4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原位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D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TPD-IR-M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储伟 ，催化剂工程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肖丰收，辛勤，催化研究中的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TPD-IR-MS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方法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KLTLZX</cp:lastModifiedBy>
  <dcterms:modified xsi:type="dcterms:W3CDTF">2011-11-02T01:43:1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