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7F6-2078-4D8B-A7B6-4D07CE85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828-9D8E-468F-8275-FA4451F4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487-EDCA-46B0-BA80-0D66C4C8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DDD-28CF-4EE0-AACF-1C23E5BB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ECD-6E1F-4916-AB5A-82B2919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A63-9181-4EED-A023-E9ED97F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1E9-A2B1-44F6-8B97-648DD4A6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CBB-4380-4476-876A-4CE4DCE7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195-C351-4685-B0C6-C02D6DD0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366-03B1-43BD-A758-EE6D953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6DA-F4A1-4CA6-8DC1-EF22469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199-24C3-4E41-AF89-24709C71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1E4-C0DC-442F-A854-A1E2B1642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Ｘ射线光电子能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及分峰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292640"/>
            <a:ext cx="4392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科学院化学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5.1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分峰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所拷贝数据转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所需拟合元素的数据引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，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lumn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值复制到一空的记事本文档中（即成两列的格式，左边为结合能，右边为峰强），并存盘。如要对数据进行去脉冲处理或截取其中一部分数据，需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做好处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7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打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 Pea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数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----Impo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引入所存数据，则出现相应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本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因软件问题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igh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ow B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位置最好不改，否则无法再回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此时本底将连接这两点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据实际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情况选择，一般选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irle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352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小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eak Ty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峰类型（一般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选择希望的峰位，需固定时则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小方框，同法还可选半峰宽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WH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、峰面积等。各项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来固定此峰与另一峰的关系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7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4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5/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峰位间距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峰面积比可固定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: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lete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去掉此峰。然后再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d p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第二个峰，如此重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47628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好所需拟合的峰个数及大致参数后，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拟合，观察拟合后总峰与原始峰的重合情况，如不好，可以多次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 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292392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3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查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拟合完成后，分别点另一个窗口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ion Peak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可看每个峰的参数，此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峰中变红的为被选中的峰。如对拟合结果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，可改变这些峰的参数，然后再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00" y="0"/>
            <a:ext cx="1547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Region 1</a:t>
            </a:r>
            <a:br>
              <a:rPr sz="1200"/>
            </a:b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004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8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5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XP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 K-alpha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486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A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E+37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.453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Kinetic Energy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200"/>
            </a:b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1072.6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0.05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745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ig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作图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文件，可以看到一列数据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找到相应元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一张谱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文件有多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下面一个数据为动能起始值，即谱图左侧第一个数据。用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486.6-KE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算成结合能起始值，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个常数值，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荷电位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个样品有一个值在邮件正文中给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476280"/>
            <a:ext cx="83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ve X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下回要打开时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en XP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可以打开这副图继续进行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数据输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Print with peak paramet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打印带各峰参数的谱图，通过峰面积可计算此元素在不同峰位的化学态的含量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to 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将图和数据都复制到了剪贴板上，打开文档（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），点粘贴，就把图和数据粘贴过去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――Expor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tr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则将拟合好的数据存盘，然后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从多列数据栏打开，则可得多列数据，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作出拟合后的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218880" cy="233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188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拟合好的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新引回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435880" cy="58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2987640" y="155736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00280"/>
            <a:ext cx="72723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大家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0" y="0"/>
            <a:ext cx="18716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1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Kinetic Energy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V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072.6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0.05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unts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lse counting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.1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600"/>
            </a:br>
            <a:r>
              <a:rPr b="1" lang="zh-CN" sz="1600" spc="-1" strike="noStrike">
                <a:solidFill>
                  <a:srgbClr val="ff33cc"/>
                </a:solidFill>
                <a:latin typeface="Arial"/>
              </a:rPr>
              <a:t>401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2202.52</a:t>
            </a:r>
            <a:br>
              <a:rPr sz="16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4127.0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458.3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9.72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23.56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53.48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一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，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每张谱图间有可能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继续向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找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数，该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即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再下面的数据开始两个数据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接下来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数据都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数据，将它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(Y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(X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再点右键，然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t column valu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出现一个对话框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1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道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l(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0.05*(i-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或直接填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486.6-KE</a:t>
            </a:r>
            <a:r>
              <a:rPr b="1" lang="zh-CN" sz="2400" spc="-1" strike="noStrike" baseline="-25000">
                <a:solidFill>
                  <a:srgbClr val="333399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Symbol"/>
                <a:ea typeface="Symbol"/>
              </a:rPr>
              <a:t>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- 0.05*(i-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此时即可以作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1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谱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画出来的图有可能有一些尖峰，那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脉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应把它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方法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-Move Data Poin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然后按键盘上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     箭头去除脉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16000" y="5229000"/>
            <a:ext cx="863640" cy="504720"/>
            <a:chOff x="1116000" y="5229000"/>
            <a:chExt cx="863640" cy="504720"/>
          </a:xfrm>
        </p:grpSpPr>
        <p:sp>
          <p:nvSpPr>
            <p:cNvPr id="55" name=""/>
            <p:cNvSpPr/>
            <p:nvPr/>
          </p:nvSpPr>
          <p:spPr>
            <a:xfrm>
              <a:off x="1116000" y="53006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979640" y="52290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7:00:07Z</dcterms:created>
  <dc:creator>liufen</dc:creator>
  <dc:description/>
  <dc:language>en-US</dc:language>
  <cp:lastModifiedBy>liufen</cp:lastModifiedBy>
  <dcterms:modified xsi:type="dcterms:W3CDTF">2005-10-21T05:24:34Z</dcterms:modified>
  <cp:revision>27</cp:revision>
  <dc:subject/>
  <dc:title>Ｘ射线光电子能谱数据处理及分峰步骤</dc:title>
</cp:coreProperties>
</file>