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DE4-1129-4D1D-8112-776CDB0A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227-95C1-40A8-B914-CCBFA86A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953-3A72-4245-AFBD-7453120A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D9A-C9AE-42CD-964F-0CA813F5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B1AD-5E90-47E7-8CD7-7A3F2975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EAAB-9FDA-4ADE-A599-32E70CDF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A03E-0619-4ABE-82BF-B11A92D5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F003-0DCE-4D29-9B76-7610285D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D1C4-83B5-4911-87B3-8897FA2E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EDCB-632C-4478-8967-DD58BDA5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3239-42E7-4337-8BA1-22DD725A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8F0-85F4-46C4-81F5-1690461F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11F0-3B45-4E42-8D7B-38C818FD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2BF8-E54E-4FF6-87ED-2AF32732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59D3-7437-44CB-82C8-FDB78903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FA3F-3A53-4040-86A5-8529B70F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6CBD-3EFB-4C78-9B9C-E1ACEF36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C17-170A-41C0-BA07-ADB3EBC0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EDD-C313-467E-9527-3499B2A1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180-0CFB-4CFD-8F72-159EF798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2D2-AD05-4E86-9BAB-6D708008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46C-82D8-4D89-A4FA-A5819DD9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3B6-D184-4720-98EF-C79B830D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3B3-8A3C-4BA4-940A-29DDBFDA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406C-0013-4065-B29F-11AD6E6843A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D9C1-18B7-4679-83BA-EF9CE6FFA38E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5840" y="1066680"/>
            <a:ext cx="4724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固体催化剂的表征方法—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/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还原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/TPR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00800" y="3801960"/>
            <a:ext cx="22860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00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程序升温还原（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TPR)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应用于表征负载型金属或过渡金属氧化物催化剂，对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结果进行分析可以获得金属与载体的相互作用，金属的价态和是否形成合金等方面的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徐柏庆，徐奕德等，程序升温原位分析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5261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还原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负载的金属的价态，聚集状态，与载体的作用发生改变的时候，其还原温度，还原后的价态将会发生改变，如果能测出程序升温还原过程中氢气的消耗量，还原温度等，就能得到负载金属的一些状态参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6858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步骤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水分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145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.Ni/ZrO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The increase metal loading reduces the metal-support interaction and the metal oxide reduces with less interference from the suppor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aresh C.Das,Catalysis Letters Vol.98,Nos.2-3,November 200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496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167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267440" cy="4419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4191120" cy="4419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6172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Times New Roman"/>
              </a:rPr>
              <a:t>Gonzalo Aguila,Catalysis Communications 9(2008)2550-255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谢   谢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代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Ovetanovio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menomiy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成功建立和发展了程序升温技术，在最近的几十年中，不管是理论上还是在实验上都得到了充分的完善，并且有广泛的应用，通过此方法可以得到气体在催化剂上吸附键的强弱等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辛勤，催化研究中的原位技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6406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.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4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测量某固体酸碱的强度和数量时，固体上的物种活性系数是未知的，因此从热力学上来讲固体的酸度和碱度都是不确定的，如果考虑到上述局限性，又不过分强调数值的精度，其绝对值还是非常重要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于测定酸强度和酸量的方法有胺滴定法，红外和气体吸附脱附法，后两方法更为普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碱性气体在酸性中心上吸附时，吸附在强酸中心上的比吸附在弱酸中心上的稳定，也更难脱附，提高温度可令其从酸性中心上脱附，而那些在弱酸中心上的将首先脱附，因此测定在不同温度下脱附的吸附碱相对量可测定酸中心强度，而脱附的碱性气体的量也就对应其酸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常用的碱性气体有氨气，吡啶和正丁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田部浩三，新固体酸和碱及其催化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两种常用的研究酸技术的比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523880"/>
          <a:ext cx="6553080" cy="502632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286000"/>
              </a:tblGrid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程序升温脱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吡啶红外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强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温度范围较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只能比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以内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分布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类型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282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：吹扫吸附在催化剂上的水分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吸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物理吸附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37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9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u-Mn-Si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耦合反应合成环己酮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-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甲基呋喃的研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3: Cu:Mn=1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4: Cu:Mn:Si=1:1.12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5: Cu:Mn:Si=1:1.12:1.1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6: Cu:Mn:Si=1:1.12:0.6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结论：弱酸对环己醇脱氢没有太大的影响，而中等强度的酸对环己酮的收率影响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ong-Yan Zheng,Yu-Lei Zhu,Catalysis Communications 9(2008)342-348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402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60958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Komandur V.R.Chary,J.Phys.Chem.B,2007,111(3),543-550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33320" y="1371600"/>
            <a:ext cx="333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TPD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的几种延伸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4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原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TPD-IR-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储伟 ，催化剂工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肖丰收，辛勤，催化研究中的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TPD-IR-MS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KLTLZX</cp:lastModifiedBy>
  <dcterms:modified xsi:type="dcterms:W3CDTF">2011-11-02T01:43:1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